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A106-4C85-4349-8A4F-963D63D633F0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160D-5D9A-42CB-8F67-54F723392F3C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95A8-D791-4696-85A8-B7556254C9B7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C33C-E2B4-4176-A2D3-EB645BEE681C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5E24-DEF7-4585-A7A3-D7FD72F10645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095A-6696-44DD-99D8-8D621DED5FA0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C590-A683-406D-8F4C-A040439AB5C0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B79E-DFDC-459B-96D4-B1D78BC87536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52D4-EAFF-42C2-81D8-DE3C56028375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A6D5-68CC-45F6-977E-10FFD90B19BB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79B-0DE1-437F-ABC4-E261F655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333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EB9-4F0A-43C9-B7EC-99DF0124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3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65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9D6-E646-4461-B402-D6D62522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220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333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776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220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2D46-099F-41A8-AE30-04C4E1FD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17FD-34FD-44C4-A9FA-98C39556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333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A409-CC34-48DE-8E7E-C81FD2D1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6E16-7FD3-4809-B6BC-4465DE6E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67C1-66D2-4EAC-8AFA-52B4073D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3FFB-77C4-4EB7-B74E-60A81AED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33360" y="2743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5469-8DDF-4BD4-887F-1C828A05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33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56C2-F275-42CC-BC2C-E0E9FB73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333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229-3A69-43A5-AD50-5F035BAD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65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83EC-789F-4E85-A8CC-7C44CC6C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840D-9865-4ABD-BB70-738DB04C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333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3DEF-4E69-4C67-9EF5-05419524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33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65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1C49-16BA-4164-8E26-9B1A9DBA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20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333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776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220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DB96-5113-4FE6-999E-F7832097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BC57D-70C9-4520-A1EF-9FACE2F6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1333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81F30-D34E-4A62-ABA9-1FCBD248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02D03-CCCE-46E6-9A40-CC24D3B0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B7858-049F-46CE-B749-CE47BD8C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F84ED-5054-4531-9E49-56C7B7AA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581-C54A-4541-953F-1C88EE7C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133360" y="2743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CCD43-A198-481B-AB8D-AB2134CA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133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0D057-B2FB-4DCD-B93C-6EDF5880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865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3EA52-CFB1-476E-AE65-5A0F1BA4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1333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76F6A-37EF-4261-88B2-8256B8DC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1333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8CAC4-8309-49D8-A749-0BB139F8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133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865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98B35-D661-4EDC-A698-CBC2A1D5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776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220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1333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4776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8220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D3AD7-8C49-432F-945A-567DD006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CEA-996D-44AF-B79E-1D21C69A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53C-B646-4B54-8B7A-23109D82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360" y="2743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A41-2904-49A4-90A4-F18AB70C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33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BDC-A131-453C-ABC8-3B0706DB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65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184-2822-4080-AD6F-2A1817DB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65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333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67BA-5B58-446C-BF00-D396032E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3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982D-72EA-4E4E-9F19-429D08446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1333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2AA1-D4FD-4852-95AB-56CD149A4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1333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13F1-8D07-4E8B-9402-C6EA6D13E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it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00024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iikettä vastustava vo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-1089000" y="0"/>
            <a:ext cx="10233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kstikehys 3"/>
          <p:cNvSpPr/>
          <p:nvPr/>
        </p:nvSpPr>
        <p:spPr>
          <a:xfrm>
            <a:off x="1384560" y="6000840"/>
            <a:ext cx="51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an kitkaa emme pysty liikkumaan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6715080" y="571680"/>
            <a:ext cx="1685880" cy="2295360"/>
          </a:xfrm>
          <a:prstGeom prst="rect">
            <a:avLst/>
          </a:prstGeom>
          <a:ln w="0">
            <a:noFill/>
          </a:ln>
        </p:spPr>
      </p:pic>
      <p:sp>
        <p:nvSpPr>
          <p:cNvPr id="135" name="Tekstikehys 2"/>
          <p:cNvSpPr/>
          <p:nvPr/>
        </p:nvSpPr>
        <p:spPr>
          <a:xfrm>
            <a:off x="500040" y="1071720"/>
            <a:ext cx="63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Naulat ja ruuvit eivät py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seinäss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6643800" y="4143240"/>
            <a:ext cx="1604880" cy="1814760"/>
          </a:xfrm>
          <a:prstGeom prst="rect">
            <a:avLst/>
          </a:prstGeom>
          <a:ln w="0">
            <a:noFill/>
          </a:ln>
        </p:spPr>
      </p:pic>
      <p:sp>
        <p:nvSpPr>
          <p:cNvPr id="137" name="Tekstikehys 4"/>
          <p:cNvSpPr/>
          <p:nvPr/>
        </p:nvSpPr>
        <p:spPr>
          <a:xfrm>
            <a:off x="3078720" y="428616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ulitikku ei sytty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tk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71680" y="1071720"/>
            <a:ext cx="4038480" cy="16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tka vastustaa liikettä ja liikkeelle lähtöä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219640" y="208116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5056200" y="4240080"/>
            <a:ext cx="318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kstikehys 11"/>
          <p:cNvSpPr/>
          <p:nvPr/>
        </p:nvSpPr>
        <p:spPr>
          <a:xfrm>
            <a:off x="2174760" y="3000240"/>
            <a:ext cx="63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itka johtuu pintojen epätasaisuud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kstikehys 13"/>
          <p:cNvSpPr/>
          <p:nvPr/>
        </p:nvSpPr>
        <p:spPr>
          <a:xfrm>
            <a:off x="1893240" y="3714840"/>
            <a:ext cx="743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itkan suuruuteen vaikuttaa kosketuspintoj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ateriaali ja kappaleen pai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itkasta on hyöty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43200" y="157176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gän pohji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nrenkai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kotetulla tiell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ipeilless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rrutettae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orakulmio 1"/>
          <p:cNvSpPr/>
          <p:nvPr/>
        </p:nvSpPr>
        <p:spPr>
          <a:xfrm>
            <a:off x="3714840" y="142884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eissa (lämpö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ihdettäessä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 lumilautailu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yrität työntää kappalet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ovi nari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kstikehys 2"/>
          <p:cNvSpPr/>
          <p:nvPr/>
        </p:nvSpPr>
        <p:spPr>
          <a:xfrm>
            <a:off x="3872520" y="57168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itkasta on haitt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crate1"/>
          <p:cNvPicPr/>
          <p:nvPr/>
        </p:nvPicPr>
        <p:blipFill>
          <a:blip r:embed="rId1"/>
          <a:stretch/>
        </p:blipFill>
        <p:spPr>
          <a:xfrm>
            <a:off x="0" y="285840"/>
            <a:ext cx="3629160" cy="2504880"/>
          </a:xfrm>
          <a:prstGeom prst="rect">
            <a:avLst/>
          </a:prstGeom>
          <a:ln w="0">
            <a:noFill/>
          </a:ln>
        </p:spPr>
      </p:pic>
      <p:sp>
        <p:nvSpPr>
          <p:cNvPr id="149" name="Tekstikehys 2"/>
          <p:cNvSpPr/>
          <p:nvPr/>
        </p:nvSpPr>
        <p:spPr>
          <a:xfrm>
            <a:off x="2886480" y="214200"/>
            <a:ext cx="59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epokitka vastustaa liikkeelle lähtöä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kstikehys 3"/>
          <p:cNvSpPr/>
          <p:nvPr/>
        </p:nvSpPr>
        <p:spPr>
          <a:xfrm>
            <a:off x="2859480" y="3357720"/>
            <a:ext cx="51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iikekitka vastustaa liukumis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2" descr="MCj01558050000[1]"/>
          <p:cNvPicPr/>
          <p:nvPr/>
        </p:nvPicPr>
        <p:blipFill>
          <a:blip r:embed="rId1"/>
          <a:stretch/>
        </p:blipFill>
        <p:spPr>
          <a:xfrm>
            <a:off x="357120" y="642960"/>
            <a:ext cx="3124440" cy="2603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0" y="3143160"/>
            <a:ext cx="5072040" cy="3714840"/>
          </a:xfrm>
          <a:prstGeom prst="rect">
            <a:avLst/>
          </a:prstGeom>
          <a:ln w="0">
            <a:noFill/>
          </a:ln>
        </p:spPr>
      </p:pic>
      <p:sp>
        <p:nvSpPr>
          <p:cNvPr id="153" name="Tekstikehys 3"/>
          <p:cNvSpPr/>
          <p:nvPr/>
        </p:nvSpPr>
        <p:spPr>
          <a:xfrm>
            <a:off x="3094560" y="214200"/>
            <a:ext cx="55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ierimiskitka vastustaa vierimistä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kstikehys 5"/>
          <p:cNvSpPr/>
          <p:nvPr/>
        </p:nvSpPr>
        <p:spPr>
          <a:xfrm>
            <a:off x="5134680" y="3429000"/>
            <a:ext cx="39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ikekitka pysäyttää liikkeen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kstikehys 1"/>
          <p:cNvSpPr/>
          <p:nvPr/>
        </p:nvSpPr>
        <p:spPr>
          <a:xfrm>
            <a:off x="1465200" y="571680"/>
            <a:ext cx="75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Ovi narisee. Onko kitkaa liikaa vai liian vähä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kstikehys 3"/>
          <p:cNvSpPr/>
          <p:nvPr/>
        </p:nvSpPr>
        <p:spPr>
          <a:xfrm>
            <a:off x="475920" y="1285920"/>
            <a:ext cx="815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tto luistaa jalkasi alta. Onko kitkaa liikaa vai liian vähä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kstikehys 4"/>
          <p:cNvSpPr/>
          <p:nvPr/>
        </p:nvSpPr>
        <p:spPr>
          <a:xfrm>
            <a:off x="345240" y="2071800"/>
            <a:ext cx="87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ukastut banaaninkuoreen. Liikaa kitkaa vai liian vähän kitka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kstikehys 5"/>
          <p:cNvSpPr/>
          <p:nvPr/>
        </p:nvSpPr>
        <p:spPr>
          <a:xfrm>
            <a:off x="2952360" y="300024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tä seuraavissa tilanteis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kstikehys 6"/>
          <p:cNvSpPr/>
          <p:nvPr/>
        </p:nvSpPr>
        <p:spPr>
          <a:xfrm>
            <a:off x="4799160" y="3643200"/>
            <a:ext cx="22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kset lipsuvat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kstikehys 7"/>
          <p:cNvSpPr/>
          <p:nvPr/>
        </p:nvSpPr>
        <p:spPr>
          <a:xfrm>
            <a:off x="4654800" y="4214880"/>
            <a:ext cx="34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uto joutuu vesiliirt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kstikehys 8"/>
          <p:cNvSpPr/>
          <p:nvPr/>
        </p:nvSpPr>
        <p:spPr>
          <a:xfrm>
            <a:off x="4573080" y="4786200"/>
            <a:ext cx="46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lkupyörässäsi on kuulalaake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5:58:00Z</dcterms:created>
  <dc:creator>Ritva Tamminen</dc:creator>
  <dc:description/>
  <dc:language>en-US</dc:language>
  <cp:lastModifiedBy>Ritva Tamminen</cp:lastModifiedBy>
  <dcterms:modified xsi:type="dcterms:W3CDTF">2009-09-16T16:48:57Z</dcterms:modified>
  <cp:revision>6</cp:revision>
  <dc:subject/>
  <dc:title>Kitka</dc:title>
</cp:coreProperties>
</file>